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729-C6BA-4CCE-BBDD-3EA302D0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141-CC8E-4053-872A-B7672988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9CE-BAFA-4697-9A26-60C656DB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834-F5F0-4268-B594-A07FE1DA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7AE9-1D30-4D3E-BA31-891087FF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826-2023-407E-B298-8AD0B8DB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EFA7-0947-40D1-8AB9-835DB3B5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BAB-63AA-4AF4-A777-0B75D5D5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ED2F-8F21-4048-B502-360D1309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C08-031A-4886-8446-C27A99F3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EFC-2135-4AE3-A870-7BFFD775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8EE-75CD-42AC-BACE-59B92796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44C8-129D-43BC-9614-BA4F94CDECE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slanda-cascata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Determinismo del pa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Stress del feto </a:t>
            </a:r>
            <a:r>
              <a:rPr b="1" lang="it-IT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CTH ipofisi fetale 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Surrene fetale 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Glucocorticoidi 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Incremento Estrogeni placentari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Liberazione di pgf2alfa (miometrio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lacenta) 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Luteolisi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Calo del progesterone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Ulteriore produzione di pgf2alfa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ntrazione miometrio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ossitocina</a:t>
            </a:r>
            <a:r>
              <a:rPr b="1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it-IT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Espulsione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cc66"/>
                </a:solidFill>
                <a:latin typeface="Arial"/>
              </a:rPr>
              <a:t>Presentazione posterior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66"/>
                </a:solidFill>
                <a:latin typeface="Arial"/>
              </a:rPr>
              <a:t>Non è considerata in questa spe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66"/>
                </a:solidFill>
                <a:latin typeface="Arial"/>
              </a:rPr>
              <a:t>disto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333399"/>
                </a:solidFill>
                <a:latin typeface="Arial"/>
              </a:rPr>
              <a:t>Placentofagia</a:t>
            </a: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incoraggiare,è spesso seguito da vomito, non sono noti i  benefici e le  motiv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TubeFeeding1"/>
          <p:cNvPicPr/>
          <p:nvPr/>
        </p:nvPicPr>
        <p:blipFill>
          <a:blip r:embed="rId1"/>
          <a:stretch/>
        </p:blipFill>
        <p:spPr>
          <a:xfrm>
            <a:off x="3924360" y="2060640"/>
            <a:ext cx="4751280" cy="41338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24000" y="333360"/>
            <a:ext cx="34560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e manca l’istinto materno il proprietario deve intervenire </a:t>
            </a: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entro 1 minuto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allontanando i residui placentatari eventualmente aspirando con </a:t>
            </a: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siring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agocannula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it-IT" sz="2800" spc="-1" strike="noStrike">
                <a:solidFill>
                  <a:srgbClr val="66ff33"/>
                </a:solidFill>
                <a:latin typeface="Arial"/>
              </a:rPr>
              <a:t>catetere x ga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rdone"/>
          <p:cNvPicPr/>
          <p:nvPr/>
        </p:nvPicPr>
        <p:blipFill>
          <a:blip r:embed="rId1"/>
          <a:stretch/>
        </p:blipFill>
        <p:spPr>
          <a:xfrm>
            <a:off x="-8029440" y="-4780080"/>
            <a:ext cx="18721080" cy="13438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6000" y="35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nnodare  a 3 cm e 2,5 cm dalla parete addominale con forbici sterili e disinfettare il moncone con beta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Puerpe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l corso di puerperio abbiamo l’involuzione con condizione anestrale con una restitutio  in 4-6 setti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urante queste 4-6 settimane (fino a 8-12 settimane)  Scolo inodore</a:t>
            </a:r>
            <a:r>
              <a:rPr b="0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erde o marrone rossastro scur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.B. la presenza di sintomi generali in questa fase da forte sospetto di infezione ut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Arial"/>
              </a:rPr>
              <a:t>Persistenza dei siti placentar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Arial"/>
              </a:rPr>
              <a:t>NORMALE  INVOLUZIONE DEI SITI PLACENT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1 settimana </a:t>
            </a:r>
            <a:r>
              <a:rPr b="0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edi di inserzione placentare 1,5-2 cm (superficie ruvida granuleggiantre rivestita di muco e sang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4 settimana</a:t>
            </a:r>
            <a:r>
              <a:rPr b="0" lang="it-IT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imensioni molto + rido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 persistenza di sangue copioso</a:t>
            </a:r>
            <a:r>
              <a:rPr b="0" lang="it-IT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ssibile sangue dai siti placentari (terapia con Prostaglandine  0,25mg/Kg/SId per 2-3gg S.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ppure intervento chirurgico abl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Definizione di Distocia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to difficoltoso con impossibilità d’espulsione spontanea dei feti attraverso il canale del parto…evento abbastanza comune nella ca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7089120" y="630864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it-IT" sz="5400" spc="-1" strike="noStrike">
                <a:solidFill>
                  <a:srgbClr val="ffffff"/>
                </a:solidFill>
                <a:latin typeface="Arial"/>
              </a:rPr>
              <a:t>Cause di disto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INERZIA UTERINA PRIMARIA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O NON OSTRUT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Inerzia Uterina Assol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cinesia  del miomet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Arial"/>
              </a:rPr>
              <a:t>Inerzia Uterina Rel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pocinesia con espulsione di una parte del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ucciolata seguita da fenomeni di esaurimento fun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utero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-252360" y="-258840"/>
            <a:ext cx="9864720" cy="7218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Ut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ssenza di forza contrat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sufficienza di forze contrat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questo tipo di distocie si risolve con terapie di ordine med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416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848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Arial"/>
              </a:rPr>
              <a:t>Perchè e quando si abbassa la temperatura rettale nella cagna gravid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4680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0-18 ore prima del parto </a:t>
            </a:r>
            <a:r>
              <a:rPr b="0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lo del progest. sotto i 2ng/m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4-10 ore da questa modificazione endocrina abbiamo un calo della temp.rettale a 37-36.5°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79280" y="4695840"/>
            <a:ext cx="540072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n definitiva dal momento del calo della temperatura al parto passeranno 10-24 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Temperatura-web"/>
          <p:cNvPicPr/>
          <p:nvPr/>
        </p:nvPicPr>
        <p:blipFill>
          <a:blip r:embed="rId1"/>
          <a:stretch/>
        </p:blipFill>
        <p:spPr>
          <a:xfrm>
            <a:off x="5796000" y="2205000"/>
            <a:ext cx="3286080" cy="40291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INERZIA UTERINA SECONDARIA</a:t>
            </a:r>
            <a:br>
              <a:rPr sz="4000"/>
            </a:b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O DA OSTRU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miometrio si contrae ma l’attività si esaurisce per cause indipendenti dalla funzionalità ut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macrosomia fetale – anelli fibrosi  - bacino viziato – atteggiamenti viziati del fet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Pel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acino"/>
          <p:cNvPicPr/>
          <p:nvPr/>
        </p:nvPicPr>
        <p:blipFill>
          <a:blip r:embed="rId1">
            <a:lum bright="-60000"/>
          </a:blip>
          <a:stretch/>
        </p:blipFill>
        <p:spPr>
          <a:xfrm>
            <a:off x="0" y="-6984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acino viziato  per patologie congen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Bacino viziato per patologia acqui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frattu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in genere una risoluzione chirurgi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macrosomia fetale"/>
          <p:cNvPicPr/>
          <p:nvPr/>
        </p:nvPicPr>
        <p:blipFill>
          <a:blip r:embed="rId1"/>
          <a:stretch/>
        </p:blipFill>
        <p:spPr>
          <a:xfrm>
            <a:off x="-1698480" y="-3267000"/>
            <a:ext cx="10842480" cy="153385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ffff"/>
                </a:solidFill>
                <a:latin typeface="Arial"/>
              </a:rPr>
              <a:t>Fe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3367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ipico della macrosomia fetale per le gravidanze uni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nomalie da posizione tipo presentazione cefalica con arti anteriori mantenuti posterior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anelli fibrosi"/>
          <p:cNvPicPr/>
          <p:nvPr/>
        </p:nvPicPr>
        <p:blipFill>
          <a:blip r:embed="rId1">
            <a:lum bright="-32000"/>
          </a:blip>
          <a:stretch/>
        </p:blipFill>
        <p:spPr>
          <a:xfrm>
            <a:off x="-181080" y="-243000"/>
            <a:ext cx="9325080" cy="7355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844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Vag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95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strizioni od anelli fibros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66"/>
                </a:solidFill>
                <a:latin typeface="Arial"/>
              </a:rPr>
              <a:t>Predisposizione di razza alla disto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66"/>
                </a:solidFill>
                <a:latin typeface="Arial"/>
              </a:rPr>
              <a:t>RAZZE BRACHICEF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Bacino stretto e piccolo      Macrosom. cefalica fetale  Diametro toracico a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emperamento nervoso ed apprens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Bulldog                   BostonTerrier              Carlino                 Scottish Terrier      SeallyhamTer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bulldog74"/>
          <p:cNvPicPr/>
          <p:nvPr/>
        </p:nvPicPr>
        <p:blipFill>
          <a:blip r:embed="rId1"/>
          <a:stretch/>
        </p:blipFill>
        <p:spPr>
          <a:xfrm>
            <a:off x="179280" y="4869000"/>
            <a:ext cx="1403280" cy="1403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boston terrier"/>
          <p:cNvPicPr/>
          <p:nvPr/>
        </p:nvPicPr>
        <p:blipFill>
          <a:blip r:embed="rId2"/>
          <a:stretch/>
        </p:blipFill>
        <p:spPr>
          <a:xfrm>
            <a:off x="1979640" y="4853160"/>
            <a:ext cx="1584360" cy="1384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arlino"/>
          <p:cNvPicPr/>
          <p:nvPr/>
        </p:nvPicPr>
        <p:blipFill>
          <a:blip r:embed="rId3"/>
          <a:stretch/>
        </p:blipFill>
        <p:spPr>
          <a:xfrm>
            <a:off x="3851280" y="4827600"/>
            <a:ext cx="1512720" cy="140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Ter_ScottishTerrier"/>
          <p:cNvPicPr/>
          <p:nvPr/>
        </p:nvPicPr>
        <p:blipFill>
          <a:blip r:embed="rId4"/>
          <a:stretch/>
        </p:blipFill>
        <p:spPr>
          <a:xfrm>
            <a:off x="5651640" y="4797360"/>
            <a:ext cx="1585800" cy="1440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sealyham1"/>
          <p:cNvPicPr/>
          <p:nvPr/>
        </p:nvPicPr>
        <p:blipFill>
          <a:blip r:embed="rId5"/>
          <a:stretch/>
        </p:blipFill>
        <p:spPr>
          <a:xfrm>
            <a:off x="7416720" y="4797360"/>
            <a:ext cx="1619280" cy="14083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66"/>
                </a:solidFill>
                <a:latin typeface="Arial"/>
              </a:rPr>
              <a:t>QUANDO TEMERE UN EPISODIO DI DISTOC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57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30-45 Minuti di contrazioni addominali senza espulsione di alcun f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terruzione superiore a 4-6 ore dall’espulsione dell’ultimo fe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ssenza di manifestazioni tipiche  dopo 24-36 ore dal calo de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rotrarsi della gravidanza oltre 70 gg dal primo accoppiamento o 60gg dal die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Arial"/>
              </a:rPr>
              <a:t>SE PRENDIAMO IN CONSIDERAZIONE COME DATA L’ACCOPPI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912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33"/>
                </a:solidFill>
                <a:latin typeface="Arial"/>
              </a:rPr>
              <a:t>63 gg media         (primo accoppia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33"/>
                </a:solidFill>
                <a:latin typeface="Arial"/>
              </a:rPr>
              <a:t>72 gg                   (ultimo accoppia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33"/>
                </a:solidFill>
                <a:latin typeface="Arial"/>
              </a:rPr>
              <a:t>I LIMITI POSSONO OSCILLARE TRA 56 E 72 GIO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66"/>
                </a:solidFill>
                <a:latin typeface="Arial"/>
              </a:rPr>
              <a:t>SE CONSIDERIAMO LA COLPOCITOLOGI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SIDERANDO IL PRIMO GG DI DIE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GRAVIDANZA DAL 56 AL 58 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a seconda del numero della cucciol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56 gg cucciolata nume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58  gg  cucciolate  unip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VISITA DI UNA CAGNA CON SOSPETTA DISTO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elicata palpazione addom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splorazione digito digitale della cavità vagi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Raggi X (numero di feti rimasti e atteggiamenti viziati…macrosomia fetale) ed ecografia (vitalità dei fe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Fasi del par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se 1: PRODRO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se 2: DILATA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se 3: ESPUL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Segni radiografici di morte fet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llasso della colonna verteb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as intrafe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lterazioni dei normali rapporti topografici delle ossa cran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Inerzia uterina: terapia med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ssitocina Meglio 2UI/Kg I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 assenza di risposta entro 30-40 mi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procede ad una seconda dose ma questa volta preceduta da  infusione lenta di gluconato di calcio 10% (monitorando il cuore) se possibile calc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 assenza di risposta entro altri 30-40 min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proceda ad una terza dose ma questa volta preceduta da infusione di destrosio al 50% o 33% se possibile glic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 assenza di risposta preparare la sala oper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Interventi ostetrici manu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e e medio tra i rami montanti delle mandib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dice e medio tra i garr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n l’altra mano aiutarsi per via transaddominale o ret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razione in senso caudov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Parto Pilo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Ossitocina 10UI/l di glucosata al 5% 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on pompa siringa infusione lenta po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umentare ogni 15 minuti ma prestando attenzione al rischio di tetanizzazion dell’utero (dimezzare la velocità di somminist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Sedazione del soggetto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ccessiva agitazione e nervosismo possono interferire con il travaglio di parto e richiedere una BLANDA sed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Isterotomia d’urge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ella a cui si ricorre nella maggior parte dei casi con la cagna con travagl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sterotomia Program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Individuare il primo giorno di diestro con colpocitologici  che dovranno essere eseguiti giornalmente dal giorno del calore propriamente detto fino al 7° gg di rifiuto al co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AL 50°gg di diestro (accertamernto radiografico per sapere il numero dei fe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58-59 gravidanza unip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57      gravidanza con portata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55-56 gravidanza con numerosi f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Assenza di programm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e la cagna non ha iniziato il travag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Se non abbiamo calcolato il giorno dle dies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’isterotomia può risultare pericol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quindi almeno la progesteron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OME POSTULATO: quindi almeno 57 gg dall’ultima mo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66"/>
                </a:solidFill>
                <a:latin typeface="Arial"/>
              </a:rPr>
              <a:t>Gravidanza protratta…quando preoccupar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La durata della gravidanza varia in funzione di diversi parametri (basti pensare che gli spermatozoi possono vivere da 4 a 11gg nelle vie gienitali femminili) quindi non ci si può basare solo sulla data dell’accoppi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Per cui ci preoccupia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ltre il 60 gg di diestro colpocit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ltre il 66 gg di picco di L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Oltre   68 gg dalla prima mo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Cause di gravidanza protrat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Mortalità fe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Carenza di attività surrenale fetale e della cascata d’eventi che innesca il pa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(Il pericolo di feti morti è rischio di complicazioni di natura infettiva (isterotomia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nerzia uterina pri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Unico feto quindi attività surrenale insuf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pocalcemia (ra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se 1 PRODROM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8760" y="1600200"/>
            <a:ext cx="3908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ffff66"/>
                </a:solidFill>
                <a:latin typeface="Arial"/>
              </a:rPr>
              <a:t>Inizia con l’insorgenza delle contrazioni uterine e finisce con la dilatazione cervi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Nella donna questa fase corrisponde la + lunga del travaglio…nella cagna presenta un decorso spesso  asintom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e contrazioni  -non percepibili-  dall’esterno si presentano a intervalli regolari sempre + bre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La durata di qesta fase varia da 6-12-fino 24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Alcuni sintomi possono manisfestarsi con: irrequietezza anoressia,tremori, masticazioni a vuoto e..nella fase finale ricerca dell’isolamento scavano o strappano cenci per allestirsi un giacig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ogo argentino 2"/>
          <p:cNvPicPr/>
          <p:nvPr/>
        </p:nvPicPr>
        <p:blipFill>
          <a:blip r:embed="rId1"/>
          <a:stretch/>
        </p:blipFill>
        <p:spPr>
          <a:xfrm>
            <a:off x="4859280" y="3068640"/>
            <a:ext cx="4032360" cy="3022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se 2 DILATATOR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66"/>
                </a:solidFill>
                <a:latin typeface="Arial"/>
              </a:rPr>
              <a:t>Inizia con l’insorgenza della dilatazione cervicale  per esaurirsi con l’espulsione del primo f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trasformazione-collo-utero"/>
          <p:cNvPicPr/>
          <p:nvPr/>
        </p:nvPicPr>
        <p:blipFill>
          <a:blip r:embed="rId1"/>
          <a:stretch/>
        </p:blipFill>
        <p:spPr>
          <a:xfrm>
            <a:off x="2411280" y="3573360"/>
            <a:ext cx="4667400" cy="25624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se 3 ESPUL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66"/>
                </a:solidFill>
                <a:latin typeface="Arial"/>
              </a:rPr>
              <a:t>Inizia dall’espulsione del primo feto alla conclusione del parto ed espulsione degli annessi placentari o secondam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dogo argentino espulsione cucciolo"/>
          <p:cNvPicPr/>
          <p:nvPr/>
        </p:nvPicPr>
        <p:blipFill>
          <a:blip r:embed="rId1"/>
          <a:stretch/>
        </p:blipFill>
        <p:spPr>
          <a:xfrm>
            <a:off x="682560" y="3789360"/>
            <a:ext cx="3673440" cy="2511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dogo argentino liberazione dalla placdenta"/>
          <p:cNvPicPr/>
          <p:nvPr/>
        </p:nvPicPr>
        <p:blipFill>
          <a:blip r:embed="rId2"/>
          <a:stretch/>
        </p:blipFill>
        <p:spPr>
          <a:xfrm>
            <a:off x="4572000" y="3789360"/>
            <a:ext cx="3986280" cy="2592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7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La posizione sarà in sospenzione sui calcagni o in posizione di decubito sternolate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agata5"/>
          <p:cNvPicPr/>
          <p:nvPr/>
        </p:nvPicPr>
        <p:blipFill>
          <a:blip r:embed="rId1"/>
          <a:stretch/>
        </p:blipFill>
        <p:spPr>
          <a:xfrm>
            <a:off x="865080" y="3500280"/>
            <a:ext cx="3851280" cy="2560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Arial"/>
              </a:rPr>
              <a:t>Avvisare i proprietari ch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a fase di travaglio che si protrae per oltre 1 ora dovrà suscitare preoccupazione e richiedere una consulenza veter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fatti in media a seguito dei premiti espulsivi l’espulsione avviene in 10-30 mi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ff33"/>
                </a:solidFill>
                <a:latin typeface="Arial"/>
              </a:rPr>
              <a:t>SEQUENZA  DELLE  ESPULS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sequenza delle espulsioni può avere una irregolarità ne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cagna può espellere un numero di feti per poi arrestarsi e riprendere anche dopo 4-6 ore (ma il veterinario dovrà essere interpellato già dopo 60 minu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aura  nervosismo possono interrompere il pa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’ordine di espulsione prevede alternanza funzionale delle 2 co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200000" y="6453360"/>
            <a:ext cx="176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Dr: Giuseppe Garuf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08:02:06Z</dcterms:created>
  <dc:creator>Giuseppe</dc:creator>
  <dc:description/>
  <dc:language>en-US</dc:language>
  <cp:lastModifiedBy>UWP</cp:lastModifiedBy>
  <dcterms:modified xsi:type="dcterms:W3CDTF">2010-05-11T14:12:09Z</dcterms:modified>
  <cp:revision>7</cp:revision>
  <dc:subject/>
  <dc:title>Diapositiva 1</dc:title>
</cp:coreProperties>
</file>